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993783"/>
        <c:axId val="45291925"/>
      </c:barChart>
      <c:catAx>
        <c:axId val="319937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91925"/>
        <c:crosses val="autoZero"/>
        <c:auto val="1"/>
        <c:lblAlgn val="ctr"/>
        <c:lblOffset val="100"/>
        <c:noMultiLvlLbl val="0"/>
      </c:catAx>
      <c:valAx>
        <c:axId val="452919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937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381F-290B-4A70-8A4E-41E8655A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F9D7-09F1-4F19-A21E-AEB660B4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F66B-CFCD-4540-A34E-7B3553C15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6E4F-7DF4-4F31-8AA0-9881FBD74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A60F-AE10-481C-B0B1-DF97594A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1C35-5624-46E5-B27C-B6E3D2C1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5B04-6BB0-408D-A14D-767FD3CC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D9DB-2135-4EFD-BD0B-CC8E693A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516A-3B21-48CA-90DF-23A8191C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F119-8202-4C79-BF67-CAECDAE0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544E-3168-4DBA-A73C-2346C561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1CF2-2D3A-463D-9890-30D0ADC6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14817-0E95-4019-916E-14ECEC26F3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