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313264"/>
        <c:axId val="11122693"/>
      </c:barChart>
      <c:catAx>
        <c:axId val="753132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22693"/>
        <c:crosses val="autoZero"/>
        <c:auto val="1"/>
        <c:lblAlgn val="ctr"/>
        <c:lblOffset val="100"/>
        <c:noMultiLvlLbl val="0"/>
      </c:catAx>
      <c:valAx>
        <c:axId val="111226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132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9E0D-6C9D-49D1-889C-DD95989EB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F703-E55A-431D-9396-FD3C6279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3DA4-2837-4327-B767-BF5939E21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93A5-DE4D-44CE-BB4D-E2ED9092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B80D-0023-4707-BECC-4E2D02E2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234C-F8EA-4166-9C4A-071427E9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B51A-C044-4994-9C29-A60F831D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1238-002E-437A-BF80-79D15A05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585C-E2DE-4E6D-94EF-B4D85BEF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403D-03DD-4B78-965C-DF9C8677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4CB6-C84F-4DAC-8C38-305260B5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C450-B965-464F-B516-03C44F0C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63C31-4C4C-44D8-B2F4-D286B54B08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